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1BB-1A9B-4B7B-AD09-27E777D2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0CD-EDE8-450B-B098-E1796B82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1DC8C-EFB9-47DA-9549-64A30472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769A2-5678-4CF6-8572-84D54498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05D37-E6FD-4500-9C3A-1AE115C9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80A3C-F4B3-48DB-BA6A-DBDEC78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6DF3D-FE28-40CC-95B6-BD837FEC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61D03-4783-4057-9E36-C092BB7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AEA4F-B890-4291-9EB1-7B81EF76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4F131-8CF5-46C9-B226-0EE63D46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2EA86-F96E-4151-B2D6-2671DC90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37780-FAD5-4B17-9F40-B419E9E4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255-862A-4041-8A59-279B5610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932CB-EA49-4018-AE03-48FC9702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D008B-9952-442A-B7C5-2C60EDEF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1DC36-24F2-4037-9548-2BCDE7A4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F8438-CB6A-46F8-B5B2-1B1D71DA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27968-C6C4-4926-90CB-3B15692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B2016-217D-4333-AB11-E945C6C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3E101-B282-4ECD-A68A-95E2E1A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0C137-FD6B-4426-BC57-C4A66DF3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C6795-CC4C-4D9F-B3FF-3528D2A1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8DC75-CA83-42D4-8977-CFA6CBB6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364-C0AC-48DD-9832-7270284B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0CA91-63C8-43A2-AD4A-252B061D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78FE5-F9D6-44C3-A49C-DD16A9EF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F7CC5-B300-4209-85BE-779C112A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6E305-9B5D-4823-B74B-CE3C811A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450BC-59CD-4C89-8953-9892D983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3C441-7C9A-4C0B-8432-A244B010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FCFB8-C221-4686-BAF9-354C0B2A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AA782-C1DA-4972-A539-25EB9E49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1D0E1-9544-480C-B522-01EE045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EB508-3637-48F2-822F-AD4BDBF5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3DB0-3975-40EA-BF6A-0FA71561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75781-541C-4CA9-8D41-810B3DF3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C167A-253C-4718-BE3D-F1D52350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23886-9396-49B5-A795-FD5F7A41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6C5F2-8F44-47B9-AF99-39614C16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3FB8E-5B36-4DD7-B368-7DE8547F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E11DC-1993-4087-B19D-08AE775B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A067F-66BA-4F31-AF11-EF04C0B0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781FB-7DEA-45EF-A253-F354145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91B24-28CB-4DE3-B880-7B85E800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AF6F2-9FC7-4E82-A191-EAAE106E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F953-2FF9-44CC-82D2-44E9CB0F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68D87-E588-45DE-A756-0CFF3799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2777D-7547-4782-9B27-C9EC2BB9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CC9BA-D72B-4684-9D3A-380F6BCF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EDE9F-8F3E-4282-80F1-D7B5C380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DD261-2321-4812-8CDC-978AE3AA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78D7A-36E1-4EDB-B9F3-05C038E5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1B09A-681E-4C43-980F-FA4671F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92DD4-F5A2-4CD5-9250-D57B3800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07351-1BC3-4700-87DF-554D9D92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A06F5-AE64-44B7-922F-34FF9EED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0687-E58A-4953-A57C-6C629F51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3F6E3-5DB7-4B8D-850E-F6B9B8E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D9122-7146-432B-87AC-0E6FC583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11406-19A7-4AFC-8DB8-E56E5DF2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10B0E-4ADC-4FE0-A0D7-59955F3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DF3C7-982D-40CE-9523-683B5136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85D79-E27B-4066-84E9-EACDE5E0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E164E-2F4E-4ED7-B717-0CE2E19F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A4C7E-F589-4A93-8297-48FC1E82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F242A-73CA-469F-BE72-FB983701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A7D09-535B-4463-8361-5AFC5473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8725-231E-4D26-8EAB-D8207BCF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2277B-5D59-432E-A57B-DF115879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A8D9F-D88D-4D82-826D-94EE22AD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2074C-1B52-47E0-81C6-B844DBEC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DFDC7-9DAB-43C5-97C9-2A8D900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74FED-07B7-46C5-97DC-14F8CB5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2B8EF-83D9-43E8-B7C8-F44FAA7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EE404-C92D-4A62-AAE9-4D2D1DF3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48D3E-FB78-41EB-BA7B-254D7CEE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36C3E-EDDB-4762-BB5B-BC51DE15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85183-4E6F-4695-95DE-79886615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B802-68D8-4A44-97DF-52364E76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3ABDA-C796-4A5D-AEE3-9A0AF79F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8A1D1-32D7-4E9B-8F21-A1C47BEC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FA4DC-E6FA-4E0A-A1B0-7007F126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30956-C551-4A42-B1A5-502D47EE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539AB-5660-4F21-9750-4C48CB90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56AD6-A399-46D4-A682-CCC7C625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FE1DF-BA46-40E7-98C2-13176324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9F3C7-24AA-495A-9752-79522B15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50ABF-C49D-4F3A-96E7-AAFB8A90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8A2FE-9226-40F7-89DE-7291C066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8494-7F91-4386-8911-BB604496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E0257-952D-4ED3-ACDB-6762F600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5E90F-8E88-4A4F-9CD0-07D78F2B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0ABFD-08AC-4093-BFD4-10D11CBC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7FB65-9AD3-4CB9-809D-BC15404E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51A7F-B040-492F-B4B0-06ABBECD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ECFA0-3477-4DDF-953C-984D03CF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6CA55-8478-4651-A87B-ABDAD2B4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6CC23-46E2-4D57-9616-E6101A7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45AAB-7D34-43EE-A2CA-F1893720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9A5D1E-3C19-432F-84BA-5BC6E240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1ADF-0EC2-4E49-AAF0-64A3F91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E4C0E-71B1-483B-9157-149B7205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05E95-9AEF-44C9-83EB-C8FA2A25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274CC-F6DB-4B68-BFC9-4F48FF7E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B0021-2DBF-4C2A-B1B5-CFE1CFE9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D6BE3-86B9-458A-9733-EDAEFBDD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24C49-899E-409D-9F3B-7FCA3316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091CB-D524-4A96-B06B-354D8F35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B2A43-EC9A-4F93-A347-6C92D5DA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2853F-3C78-4AFF-B486-76C14492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299EB-ADAE-49D0-8AB2-3889EEEB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B3B-2718-4BF8-AAF8-A57D4D9E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D245-0864-4D3D-B07F-2EF79C2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AEF22-2CDA-468D-8153-50AC84AC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D6BE5-18D3-4F59-9B83-8B7F21E5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184A9-5123-4831-8CDC-1E51774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0E82C-5E23-43D0-AC83-ACA6CE8A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B6A35-93D6-4BC6-8F7D-9580FD27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6832C-200C-47D5-A6D0-64A2E611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AF1758-1385-4B28-9C8B-77E40B0A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18E3D-129F-4807-AE64-97CF60E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0FFD0-FC6D-427C-A844-D56905FF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94C8D-C283-460A-AC92-D61C1A9C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4FFC-93B4-4542-8FCE-9370865D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1B80A-FF8B-4476-A479-BE4A367A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89A77-C2C2-4BCE-8220-EA69788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CE11A-6FEA-477A-8582-E4955F77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50326-304B-4EE0-B9AB-FF96FE36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1B7291-AD33-418E-9DEE-69E1745B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C46DD-3AD2-4535-B2B4-380838C2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E100F-44FA-4B09-8171-FB0A84D0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0E023-C58E-40C7-A3E7-7ECD18D0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D184B-6D9A-4584-8408-9D9CD88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356810-81A3-4E0F-B649-3F7CB6AD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BE91-1BBE-4685-8AAF-CCB7CBB0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1A047-6E65-45F2-BC20-FEF0E618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64C672-2563-4E51-903C-585448AA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6BBCA-C800-4FF7-8993-20F6E35B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3FD16-7CCF-41A1-BA10-679F937B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7A539-44E2-4BC3-84FC-0590045C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AC2FF2-0012-4804-AE9F-FFAA5270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E8999-5065-46DA-8A88-032EF1CF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D858B-6649-4A2A-A131-D18AB031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4D72D-466D-4E0E-8F69-76CBFA5A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46A1DF-E214-4808-9AD8-B0446030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4135-B7A4-455E-A258-C1016B77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34C9F-E8B5-403A-B876-AC3E958E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5F1C78-1E6E-4793-8239-B57D88DE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87C7E-7CA1-4087-AF9E-C8C0C809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47C62-3399-4D77-809A-7E048448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995AE-8778-482C-856B-13A48EF1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975A7D-9AD7-4D90-9652-E490F873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C3F37-48F4-4403-BBDF-E29B116B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B6FE7-2882-4FF4-9D0A-0472C3B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58134-54A0-4B8B-BD5C-86B4235E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86268-5C8A-475E-A9D3-836D13EE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E9E2-4A9E-4568-BE9F-CBD78D85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821B6-6B4D-4334-8AD4-4C901ED8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84B0D-D59A-4341-9378-AE053D64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21570-9687-42B4-8CB4-D34751DC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17E979-948E-4058-B501-4ED0AD23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9AF99-0C60-4018-AB00-B3950510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DAAC8-034C-42E6-93EE-C50E1D1C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5551A2-9B8F-4928-83C0-8C239DD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36CA4-66B7-4C21-926F-907EB77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A10820-313A-4D50-BF1D-759FFFD6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DDCB2-AEBD-4006-8C8C-00A15BD2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76CE-2173-4733-8198-AFB6DAD7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C407D-3875-40B5-8AED-F6873929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2371B-5F31-4143-89FF-778637F5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A01F94-D4A3-4CE7-A632-082B799A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D712-9409-48A5-A69D-6F0362CE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C8CA-F60A-4E53-A326-A8A079D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28CE4-8C0E-469F-B2C7-D45AE032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B26C-8905-49FC-B021-E2D1491E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173-D716-46CD-AD25-9212A3F3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22C9-8755-41B2-AF3A-F038BCF5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F21E-8DEB-4A2A-8D43-19D7A7D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2E83-0690-4138-9886-BB8F15A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4769-5A6D-46D5-BC54-5137E837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75F1-C508-4697-A014-9041CC7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064A-C6AB-45EC-9BF1-13B40E5A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F2CC-9DF6-439A-9D06-81C3AEAF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0600-C4D0-4301-999B-00DAC900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E0A0-27F0-4D5C-8003-0B8CC65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2E049-46DC-46BE-97B0-D8F0A3B3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12C-32AB-479B-8ECA-CFB0DE96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1E0CA-0568-4E25-A3AB-4D1389B5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A4A5-2D44-48CF-83DB-D0A7B503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C145-18FE-4DDC-BB2C-14AFD4F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E8B17-C430-42D0-9B67-C0232890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DC18-812C-43CF-B7EF-9274D0A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18BFE-BC0D-45A8-B465-89B238DD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98F7-DFC7-4062-A5E3-EAA367A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5A6A-8F12-4A16-BF69-DDC76CF3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3CD5-9C05-49F5-9FB1-BD07693C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64C1-60C1-4752-8D91-6B410D7A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BF3-550A-47F8-8263-5051563E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C438-D231-42B2-9987-5A8EDF05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DB37-3F9A-46CA-BB44-A3CF5467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7354-5B1F-4B5C-8149-8BE5D55A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AB849-0258-42D3-BAE1-16032607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5B88-614E-43FE-93DD-A38021F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BF75E-B997-47E0-BFE2-3F125E12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C5005-2952-474E-B301-FE6340C0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CF68-329B-4F12-AE6F-CE3E9A2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0D5E-F52F-47A8-888E-CB1EFFB7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EF30-2825-40AA-AF41-5345DFF6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A83-A9AB-4F08-8EDE-68F52D65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70D54-EFC7-4E08-83FF-B8B65435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DC1F8-4943-41B6-AB31-51E0769B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8CC4-51B0-40CC-A030-C953EB87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94D62-9C91-49E3-BFA4-D75F2A7A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D3FE-8B7A-4E16-AEB0-70F02941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653E-D8DF-4313-875B-1C0A7C4D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0495D-38A9-433E-883D-B1CB6A73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FB0D-4E82-41C3-9BCB-706AD068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5188-A9C0-45C6-83A8-4646104F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D6B8-A42B-4DEF-852C-1D1ABF13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ACA-CD55-4B4A-9A7F-189A7663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D1BBD-1076-4DA1-8AA9-0C0A8564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ED402-B6B4-4BC5-8392-D2535441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5AB83-0443-4250-8425-3C05E7FC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60DCA-807B-4C25-92E7-664222E9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E2904-59CF-4FC8-961B-8DE446D9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27587-D928-4901-8D98-3BDD1FE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DAA2-E275-4318-B6D8-C012981A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5CBB6-457E-4B7F-B3E0-BD1606D0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4621A-AF41-42BC-8120-725BAA67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D651F-CF59-45FE-8761-C35C3A98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81E-1731-4D57-B42D-73F5B15F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0C558-DBCC-45D2-B683-296A2BE0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82FEA-8538-4F17-838B-1D4D6A57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88C93-AEF5-45E5-9766-3220880D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B4014-4CF5-4B5C-A2B1-4DE9FC8C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5C40C-65E9-43ED-984A-0B02BF82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E0988-0419-4B82-AA7F-5B139E5E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8A0F-27AD-4816-A094-059E26D4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44332-6B62-4075-86A7-D4CAE5F0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8370E-C631-4042-8D1C-3B54D5BC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F910E-8EE5-40A3-8FAE-C35834F0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42C-1709-4735-84DF-E96B2238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67048-A27C-46E4-A3B5-604D3558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65890-7C6D-4213-8811-70F2A999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5A641-668F-44DC-96CE-D723038A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D9CC-46EB-4DD9-831E-9BBEB87E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654BD-5C90-4B8A-9845-9988DC46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B379C-2305-4298-95C3-E414C98C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A4D0D-2E71-499C-8164-62DCBC96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8B998-43F4-4C64-A60D-DD6452A4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7E68B-CD36-4462-B952-6403C76A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9B26D-AC1E-48FA-82D1-65C9A633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314F-8201-4CF1-966E-1A23B255A8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6BA1-9302-49ED-BE18-48764A352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0887-D88E-41EB-B809-7BC0FABC5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2DEC-ED62-4EE3-BD5A-498940318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E62E-10C1-47B7-8080-FAC7E56F7A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BA24-950E-4B34-A1A4-1F8FADA3F4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9408-E00D-44D5-93DA-B38E04AED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B539-6BC8-4F2A-91E9-78A1927F90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518A-9084-4AFC-B111-5410171A08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8160-0FFB-4CE2-863D-355EC4CAC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A99F-1C18-4242-BB36-004D861B6F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5BC6-80D3-4836-918C-F8F0A6C33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7BA8-AD7F-46AC-B503-CC3A1124F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3BA-45B2-404F-B491-1BB3AA39B7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B34B-988C-4D75-91E4-5155DEF9E3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945-5887-4619-9197-3D8E8391AC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9150-ED18-4270-A76F-9B6384D8B9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4FFE-9FE5-4514-A23D-2B4C02E99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D3F8-F194-4113-ADE8-52800493E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5E75-B321-43DE-B498-1337CCCDA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0758-74C6-4111-8A92-2FE308B5B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05C6-0C1B-4843-A9B4-31765125B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249-383E-484D-9F06-18EF06AC4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AD8F-D976-4F12-AD89-834E859FEE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667C-0936-4230-8A28-EAD89DA18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EE99-E616-45E6-9C34-89BCFC260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607-C57A-4AF2-A234-BEF787B80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D3A1-3092-4A30-8D4A-DE59E8CC13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51D6-2349-4256-BE14-B278DEB09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EA03-3C4D-405E-B320-63A1D19EB4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070C-8635-4C5D-B256-7DE1D95E8D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034B-37A0-48D1-BE24-70A72B005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7249-0EA6-494D-86B0-37C6E03DD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B879-86CC-4FE1-9721-30C3394EF7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4580-ED94-4EEC-BCC3-A69172497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D317-69A9-4C91-9F5E-46F82B7477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DAD5-29AF-4232-A356-2F90D732C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1FDC-8DBC-42A4-910E-AD7E849781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EA0D-A4A5-4981-8BD6-076299619D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7A24-95A3-4F2B-87BC-C8CA92F835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657360" y="3000240"/>
            <a:ext cx="78292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69633" descr=""/>
          <p:cNvPicPr/>
          <p:nvPr/>
        </p:nvPicPr>
        <p:blipFill>
          <a:blip r:embed="rId1"/>
          <a:stretch/>
        </p:blipFill>
        <p:spPr>
          <a:xfrm>
            <a:off x="1476360" y="444600"/>
            <a:ext cx="5319720" cy="61531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1547640" y="460440"/>
            <a:ext cx="4608720" cy="736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4608360" cy="736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1692360" y="2276640"/>
            <a:ext cx="4608360" cy="736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1619280" y="3213000"/>
            <a:ext cx="4608360" cy="736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6"/>
          <a:stretch/>
        </p:blipFill>
        <p:spPr>
          <a:xfrm>
            <a:off x="1692360" y="4076640"/>
            <a:ext cx="4608360" cy="736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7"/>
          <a:stretch/>
        </p:blipFill>
        <p:spPr>
          <a:xfrm>
            <a:off x="1619280" y="5013360"/>
            <a:ext cx="4608360" cy="736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8"/>
          <a:stretch/>
        </p:blipFill>
        <p:spPr>
          <a:xfrm>
            <a:off x="1476360" y="5877000"/>
            <a:ext cx="54720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514440"/>
            <a:ext cx="8591760" cy="5829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457880" y="2881440"/>
            <a:ext cx="502920" cy="792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651640" y="289548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905520" y="288144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932360" y="413388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126120" y="414828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740720" y="413388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289160" y="5388120"/>
            <a:ext cx="50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419040" y="1123920"/>
            <a:ext cx="8305920" cy="46101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140360" y="1355760"/>
            <a:ext cx="502920" cy="792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6748560" y="1341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8043840" y="132732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1476360" y="263700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4687920" y="3933720"/>
            <a:ext cx="1008000" cy="546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7164360" y="3919680"/>
            <a:ext cx="1008000" cy="546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9"/>
          <a:stretch/>
        </p:blipFill>
        <p:spPr>
          <a:xfrm>
            <a:off x="3435480" y="4508640"/>
            <a:ext cx="10080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452520" y="888840"/>
            <a:ext cx="8238960" cy="52768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3168720" cy="8650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3168720" cy="865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042920" y="5272200"/>
            <a:ext cx="3168720" cy="8650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4788000" y="2924280"/>
            <a:ext cx="3816360" cy="865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4714920" y="4119480"/>
            <a:ext cx="3816360" cy="865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4716360" y="5229360"/>
            <a:ext cx="3816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938160" y="1152360"/>
            <a:ext cx="7267680" cy="4553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2664000" cy="1008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2664000" cy="1008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1116000" y="4724280"/>
            <a:ext cx="2664000" cy="10083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4788000" y="2637000"/>
            <a:ext cx="3240000" cy="1008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4643280" y="3789360"/>
            <a:ext cx="3240360" cy="10080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4716360" y="4940280"/>
            <a:ext cx="324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632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3657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3240360" cy="863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240360" cy="574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684360" y="4653000"/>
            <a:ext cx="3240000" cy="574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4284720" y="2881440"/>
            <a:ext cx="4032360" cy="8636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4284720" y="3962520"/>
            <a:ext cx="4032360" cy="574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4211640" y="4681440"/>
            <a:ext cx="403236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5300" descr=""/>
          <p:cNvPicPr/>
          <p:nvPr/>
        </p:nvPicPr>
        <p:blipFill>
          <a:blip r:embed="rId1"/>
          <a:stretch/>
        </p:blipFill>
        <p:spPr>
          <a:xfrm>
            <a:off x="966960" y="888840"/>
            <a:ext cx="7210080" cy="52768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1619280" y="4508640"/>
            <a:ext cx="5473800" cy="8650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1619280" y="5573880"/>
            <a:ext cx="619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666720" y="204840"/>
            <a:ext cx="7810560" cy="6448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952720" cy="863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1403280" y="4479840"/>
            <a:ext cx="2952720" cy="863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1258920" y="553068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1332000" y="6149880"/>
            <a:ext cx="604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2231" descr=""/>
          <p:cNvPicPr/>
          <p:nvPr/>
        </p:nvPicPr>
        <p:blipFill>
          <a:blip r:embed="rId1"/>
          <a:stretch/>
        </p:blipFill>
        <p:spPr>
          <a:xfrm>
            <a:off x="271440" y="1257480"/>
            <a:ext cx="860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38:2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